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592-F2D1-4012-9AEA-D9BD84C4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AD9-6370-4728-8925-65D372E9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A03-7B9D-4DD8-A07C-22751C35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33E-1FD1-41F8-BB15-921C326D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758-1F02-4238-8BEE-0E8B16CD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85A-07D3-4931-A5B0-514764A9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AD9-FF61-4464-9B70-32789F54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702E-FF30-4328-B3FD-AFF460A3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2C3-8916-4F80-96DC-F9AD33BF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B1E-6113-4E9E-8A26-9E1A5814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A10-D67C-4FA6-95C1-98964BAB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2F8-E14E-4EDF-89AD-FBB9D025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9ECA-8AE9-4519-8097-06072B188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by Step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Jon needs 250 cookies for a buffet. He will make oatmeal raisin, macaroons, and chocolate chunk cookies. He wants 25% of the cookies to be oatmeal raisin and 15% of the cookies to be macaroons. How many chocolate chunk cookies must Jon bake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7640" y="1600200"/>
            <a:ext cx="721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ad the question carefully and write down what you kn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cookies –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tmeal raisin –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aroons –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colate Chunk – 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70400"/>
            <a:ext cx="8016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find out what question you are asked.  You are asked how many chocolate chunk cookies must Jon b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hat percent means out of a hundred, so if you are baking 25% of one kind, and 15% of another and the REST are chocolate chunk, then 60% of the cookies have to be chocolate chu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5392800"/>
            <a:ext cx="855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the question they are asking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60% of 250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set up a cross multiplication based upon the rules you learned in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21680" y="2971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21:05:52Z</dcterms:created>
  <dc:creator>admin</dc:creator>
  <dc:description/>
  <dc:language>en-US</dc:language>
  <cp:lastModifiedBy>admin</cp:lastModifiedBy>
  <dcterms:modified xsi:type="dcterms:W3CDTF">2008-01-22T21:22:43Z</dcterms:modified>
  <cp:revision>3</cp:revision>
  <dc:subject/>
  <dc:title>Question 8</dc:title>
</cp:coreProperties>
</file>